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3F9E6-D597-45AE-87B7-43CF15B45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EF677-5D95-4226-8824-DCB26548C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124C7-D21A-4A02-A750-DE3415718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758D0-E8B6-44BE-85EA-70381F110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F4EFC-6910-4C15-B519-B8DE55EAD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27CBA-F03B-4FCF-AA1D-D11A23A74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E3506-4F05-4254-9E5B-2AC7075C3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B9E89-602C-4773-AFB4-9CBFB8A16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A2A67-0B05-4A0F-9B61-FAD431782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3D403-E447-41DD-9C1F-E2A4FAF9F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8F6D9-37B1-475D-AC2F-9D47645CB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2E31F-B3E5-416B-AD6D-40B656026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EA49-477D-4DBE-A6AD-B6322988C2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and Pre-Columbian civilizatio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Sean and Kev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Identify the three major pre-Columbian civilizations that existed in Central and South America (Maya, Aztec, and Inca) and their locations. Describe their political structures, religious practices, and use of slav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Explain why the Aztec and Inca civilizations declined in the 16th centu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encounters between Cortez and Montezu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encounters between Pizarro and the In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goals of the Spanish conquistad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 effects of European diseases, particularly smallpox, throughout the Western hemisp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ztec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ztecs were Polytheistic which means they believed in many go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ztec capital was called Tenochtitlan and was built in the middle of a lake. Today it is Mexico C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ztecs lived in Central Mexico- Valley of Mexic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controlled many other tribes, forced them to give them money and tribute. Also they used them as slaves and human sacrifi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aniards gave some of the Aztecs smallpox and they got brought down.  </a:t>
            </a:r>
            <a:endParaRPr b="0" lang="en-US" sz="2000" spc="-1" strike="noStrike">
              <a:solidFill>
                <a:srgbClr val="000000"/>
              </a:solidFill>
              <a:latin typeface="Arial"/>
            </a:endParaRPr>
          </a:p>
        </p:txBody>
      </p:sp>
      <p:pic>
        <p:nvPicPr>
          <p:cNvPr id="47" name="" descr=""/>
          <p:cNvPicPr/>
          <p:nvPr/>
        </p:nvPicPr>
        <p:blipFill>
          <a:blip r:embed="rId1"/>
          <a:stretch/>
        </p:blipFill>
        <p:spPr>
          <a:xfrm>
            <a:off x="4495680" y="1981080"/>
            <a:ext cx="4267440" cy="2955960"/>
          </a:xfrm>
          <a:prstGeom prst="rect">
            <a:avLst/>
          </a:prstGeom>
          <a:ln w="0">
            <a:noFill/>
          </a:ln>
        </p:spPr>
      </p:pic>
      <p:sp>
        <p:nvSpPr>
          <p:cNvPr id="48" name=""/>
          <p:cNvSpPr/>
          <p:nvPr/>
        </p:nvSpPr>
        <p:spPr>
          <a:xfrm>
            <a:off x="5562720" y="52578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asu.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y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live in the Mexican Coast-Yucatan peninsula.</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just one major city-much harder for conquistadors to overthrow. (Conquistador means one who Conquers and takes over by force.)</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 did not contain as much gold as the Aztec and Inca.</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d slaves, that could sometimes gain their freedom.</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ya were able to build huge pyramid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1" name="" descr=""/>
          <p:cNvPicPr/>
          <p:nvPr/>
        </p:nvPicPr>
        <p:blipFill>
          <a:blip r:embed="rId1"/>
          <a:stretch/>
        </p:blipFill>
        <p:spPr>
          <a:xfrm>
            <a:off x="4572000" y="2362320"/>
            <a:ext cx="4572000" cy="2243160"/>
          </a:xfrm>
          <a:prstGeom prst="rect">
            <a:avLst/>
          </a:prstGeom>
          <a:ln w="0">
            <a:noFill/>
          </a:ln>
        </p:spPr>
      </p:pic>
      <p:sp>
        <p:nvSpPr>
          <p:cNvPr id="52" name=""/>
          <p:cNvSpPr/>
          <p:nvPr/>
        </p:nvSpPr>
        <p:spPr>
          <a:xfrm>
            <a:off x="4952880" y="4876920"/>
            <a:ext cx="1219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ace.utexas.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a</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written language, but had spoken language (But used knots as messag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ca lived South America, Andes Mts., Peru.</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capital was Cuzc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d animal sacrifice, and on special occasions human sacrifice. (Childr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d over 20 million Inca. That’s 4x the population of M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lived in the West Coast of South Americ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 descr=""/>
          <p:cNvPicPr/>
          <p:nvPr/>
        </p:nvPicPr>
        <p:blipFill>
          <a:blip r:embed="rId1"/>
          <a:stretch/>
        </p:blipFill>
        <p:spPr>
          <a:xfrm>
            <a:off x="4343400" y="1523880"/>
            <a:ext cx="4572000" cy="4071960"/>
          </a:xfrm>
          <a:prstGeom prst="rect">
            <a:avLst/>
          </a:prstGeom>
          <a:ln w="0">
            <a:noFill/>
          </a:ln>
        </p:spPr>
      </p:pic>
      <p:sp>
        <p:nvSpPr>
          <p:cNvPr id="56" name=""/>
          <p:cNvSpPr/>
          <p:nvPr/>
        </p:nvSpPr>
        <p:spPr>
          <a:xfrm>
            <a:off x="5562720" y="59436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p.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tez</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rtez entered the Aztec land they thought he was a pale skinned god named Quetzalcoatl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ey welcomed hi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ortez took Montezuma hostage. When fighting broke out Montezuma tried to stop it by speaking to his people. While he was speaking someone threw a stone at him and it got stuck in his head and the injury soon killed hi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ztecs drove away Cortez but they returned and defeated an the Aztecs once and for all in 1521.</a:t>
            </a: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9" name="" descr=""/>
          <p:cNvPicPr/>
          <p:nvPr/>
        </p:nvPicPr>
        <p:blipFill>
          <a:blip r:embed="rId1"/>
          <a:stretch/>
        </p:blipFill>
        <p:spPr>
          <a:xfrm>
            <a:off x="5029200" y="1143000"/>
            <a:ext cx="3533760" cy="4038480"/>
          </a:xfrm>
          <a:prstGeom prst="rect">
            <a:avLst/>
          </a:prstGeom>
          <a:ln w="0">
            <a:noFill/>
          </a:ln>
        </p:spPr>
      </p:pic>
      <p:sp>
        <p:nvSpPr>
          <p:cNvPr id="60" name=""/>
          <p:cNvSpPr/>
          <p:nvPr/>
        </p:nvSpPr>
        <p:spPr>
          <a:xfrm>
            <a:off x="5943600" y="53341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usf.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zarro</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zarro the conquistador conquered the Inca civilization by inviting Atahualpa  after he won the battle for emperor and took him hostage. The Incas paid Pizarro thousand of pounds of gold and silver to free Atahualpa but Pizarro killed him anyway. </a:t>
            </a:r>
            <a:r>
              <a:rPr b="0" lang="en-US" sz="2000" spc="-1" strike="noStrike">
                <a:solidFill>
                  <a:srgbClr val="000000"/>
                </a:solidFill>
                <a:latin typeface="Arial"/>
              </a:rPr>
              <a:t>Pizarro also had a advantage over the Inca because they were having a civil war because their emperor died and his sons were fighting over who got to be the emperor while Pizarro was planning his attack. (Civil War means 2 or more groups in the same country having a war.) </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 name="" descr=""/>
          <p:cNvPicPr/>
          <p:nvPr/>
        </p:nvPicPr>
        <p:blipFill>
          <a:blip r:embed="rId1"/>
          <a:stretch/>
        </p:blipFill>
        <p:spPr>
          <a:xfrm>
            <a:off x="5562720" y="685800"/>
            <a:ext cx="3298680" cy="4419720"/>
          </a:xfrm>
          <a:prstGeom prst="rect">
            <a:avLst/>
          </a:prstGeom>
          <a:ln w="0">
            <a:noFill/>
          </a:ln>
        </p:spPr>
      </p:pic>
      <p:sp>
        <p:nvSpPr>
          <p:cNvPr id="64" name=""/>
          <p:cNvSpPr/>
          <p:nvPr/>
        </p:nvSpPr>
        <p:spPr>
          <a:xfrm>
            <a:off x="6477120" y="5486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usf.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 years ago conquistadors conquered the Aztec and the Inca. They changed a lot of Mexico and South America. For example most of the people in Mexico and South America speak Spanish today. Also most people in Mexico and South America  are Christian and no longer worship the Native Gods. Also most of the Inca, Aztec, and Maya traditions have disappeared forever.</a:t>
            </a:r>
            <a:endParaRPr b="0" lang="en-US" sz="2000" spc="-1" strike="noStrike">
              <a:solidFill>
                <a:srgbClr val="000000"/>
              </a:solidFill>
              <a:latin typeface="Arial"/>
            </a:endParaRPr>
          </a:p>
        </p:txBody>
      </p:sp>
      <p:pic>
        <p:nvPicPr>
          <p:cNvPr id="67" name="" descr=""/>
          <p:cNvPicPr/>
          <p:nvPr/>
        </p:nvPicPr>
        <p:blipFill>
          <a:blip r:embed="rId1"/>
          <a:stretch/>
        </p:blipFill>
        <p:spPr>
          <a:xfrm>
            <a:off x="4572000" y="1905120"/>
            <a:ext cx="4309920" cy="2904840"/>
          </a:xfrm>
          <a:prstGeom prst="rect">
            <a:avLst/>
          </a:prstGeom>
          <a:ln w="0">
            <a:noFill/>
          </a:ln>
        </p:spPr>
      </p:pic>
      <p:sp>
        <p:nvSpPr>
          <p:cNvPr id="68" name=""/>
          <p:cNvSpPr/>
          <p:nvPr/>
        </p:nvSpPr>
        <p:spPr>
          <a:xfrm>
            <a:off x="5867280" y="510552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page.smc.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4:28:16Z</dcterms:created>
  <dc:creator>h</dc:creator>
  <dc:description/>
  <dc:language>en-US</dc:language>
  <cp:lastModifiedBy>jklib</cp:lastModifiedBy>
  <dcterms:modified xsi:type="dcterms:W3CDTF">2011-11-29T14:23:28Z</dcterms:modified>
  <cp:revision>4</cp:revision>
  <dc:subject/>
  <dc:title>Spanish and Pre-Columbian civilizations</dc:title>
</cp:coreProperties>
</file>